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25.jpeg" ContentType="image/jpeg"/>
  <Override PartName="/ppt/media/image2.png" ContentType="image/png"/>
  <Override PartName="/ppt/media/image10.wmf" ContentType="image/x-wmf"/>
  <Override PartName="/ppt/media/image1.jpeg" ContentType="image/jpeg"/>
  <Override PartName="/ppt/media/image35.jpeg" ContentType="image/jpeg"/>
  <Override PartName="/ppt/media/image7.png" ContentType="image/png"/>
  <Override PartName="/ppt/media/image31.png" ContentType="image/png"/>
  <Override PartName="/ppt/media/image36.jpeg" ContentType="image/jpeg"/>
  <Override PartName="/ppt/media/image40.png" ContentType="image/png"/>
  <Override PartName="/ppt/media/image38.jpeg" ContentType="image/jpeg"/>
  <Override PartName="/ppt/media/image9.png" ContentType="image/png"/>
  <Override PartName="/ppt/media/image37.jpeg" ContentType="image/jpeg"/>
  <Override PartName="/ppt/media/image48.png" ContentType="image/png"/>
  <Override PartName="/ppt/media/image42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5.png" ContentType="image/png"/>
  <Override PartName="/ppt/media/image43.jpeg" ContentType="image/jpe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333-D763-4D1F-89BD-8A3A7B3F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FDF-BE33-4857-B91F-630D245D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552-2302-48D6-8889-17932EAB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5B0-E250-4FB0-94D9-E9F0DA1E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386E-5CBE-42ED-AD91-7485B92B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B19-7BFA-4267-B38A-48AB71C0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26D-2F0B-4889-BFB5-5E249FA8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0C6-57D7-4550-8877-531CE920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E708-B8EB-4FEC-A943-CF56180C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CFD-9631-46AB-AB18-313ADD0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903-EAC7-4113-BC7F-DD9F999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222-3661-44EF-A6B8-1BDA588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FE3-276C-48F1-9AFE-302D911A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979F-C33C-40F7-9B5A-A0DC1B0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83E8-205D-44BA-832D-E8E1933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46A-B534-464D-B57A-6653E8BB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AD12-9C7B-453D-938F-484A3A24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7907-3015-4C46-B82F-9D313608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9566-772D-4053-AE94-CCB7D879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713D-0CCF-44DE-B49A-000E04E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B116-E1E1-4286-AA46-E89D0A11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8546-69FC-44D3-8AAC-4ECA983B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41A-FDED-45AB-8F12-69175555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56C1-9124-4648-94FD-39D0FA7F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24BD-9C1E-4452-A252-44F6058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27E9-9D05-47B8-8E7D-783F4601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AB3C-FBE0-40B7-A763-0041D61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28D7-0BD0-4CB5-8792-2D4037C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1493-AFD3-4DF9-8040-5D65F763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7693-17C7-46F5-90EF-7B645C99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8527-4DC0-4DDF-8B83-6DC71011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1224-2663-47EC-87DC-52B84C3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300E-16E1-4DFE-A481-834D134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46F-811A-447C-ADAE-56F957AA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3A7E-B1F4-4B36-9AB7-2ACD0FC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4979-B6BE-4474-88C5-F3B63BF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1DD8-5D15-4641-AC95-7E588BC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511A-BF3F-4468-94F4-AB34AD9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193A-7A58-41B4-9967-3083A63A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FFF1-C9E0-4D4A-802C-D61CDA2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4A2E-45C5-4E14-9009-B1975B10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CB8C-2095-416C-B438-8FD37C33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B665-DA2E-4192-BB0C-254DBAC6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FDCF-1B19-4DA6-A6B9-B34792AD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83A-39D5-4A02-B70E-F54C464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86E32-52E8-44BE-96AF-7BFF40BC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639E-710E-4EFA-A1BE-BF1A88F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A108-6409-4B91-B5EA-4AF90492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30D0-BF29-4007-954B-0ED3F250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DDB8-3FE2-4EAB-8168-C5B8481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673B3-5ECA-42E0-B8B7-739691B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F599-1E58-49D1-B988-EC378B6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24AC-2A3C-4D17-8359-A1A0A12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9DDF-1A8B-4830-980F-E2D009B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BEEF-09CF-47B6-B1B1-877B0141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E38-2F60-46E4-B5D6-D731C0A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65BAF-BC26-48FC-A365-CE2CDEF8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39B-F38A-46A6-A224-B91F3EF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6A6-F9DC-4D3E-AABB-7BEFDEC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61-BD84-49EE-B131-120A69E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5386-72A8-4B54-A07A-92D315AC522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Rectangle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065-E073-461C-8874-8DBDC199BF8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6076-1D6C-4EDB-BB01-B4EADB1AE35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33C-0E7D-4B58-BADC-134387330AB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D7A8-4802-4F93-9872-0E25F2DDECA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530280" y="298440"/>
            <a:ext cx="8211960" cy="207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 Nathalie and Alexi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6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Very few plants can tolerate the extreme cold of Antarctica. To start, some of their heights are 150in. Secondly, they live in 2% of the ice free area. Finally, they are all colorful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5" name="MS900441635[1].wav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200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d6d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 lichen is a green tall plant. To start, there’s 350 species of  them. Secondly, there is more of them  found in  Antarctica . Finally, they can grow up to two feet tall 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8" name="Picture 2" descr="C:\Documents and Settings\2056211\Local Settings\Temporary Internet Files\Content.IE5\W2IDXE9K\MP900402708[1].jpg"/>
          <p:cNvPicPr/>
          <p:nvPr/>
        </p:nvPicPr>
        <p:blipFill>
          <a:blip r:embed="rId2"/>
          <a:stretch/>
        </p:blipFill>
        <p:spPr>
          <a:xfrm>
            <a:off x="4876920" y="1600200"/>
            <a:ext cx="2495520" cy="3121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2056211\Local Settings\Temporary Internet Files\Content.IE5\3Z44CHM7\MP900201944[1].jpg"/>
          <p:cNvPicPr/>
          <p:nvPr/>
        </p:nvPicPr>
        <p:blipFill>
          <a:blip r:embed="rId3"/>
          <a:stretch/>
        </p:blipFill>
        <p:spPr>
          <a:xfrm>
            <a:off x="3365640" y="1600200"/>
            <a:ext cx="63360" cy="96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2056211\Local Settings\Temporary Internet Files\Content.IE5\3Z44CHM7\MP900201944[1].jpg"/>
          <p:cNvPicPr/>
          <p:nvPr/>
        </p:nvPicPr>
        <p:blipFill>
          <a:blip r:embed="rId4"/>
          <a:stretch/>
        </p:blipFill>
        <p:spPr>
          <a:xfrm>
            <a:off x="5029200" y="3429000"/>
            <a:ext cx="50760" cy="76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Documents and Settings\2056211\Local Settings\Temporary Internet Files\Content.IE5\3Z44CHM7\MP900201944[1].jpg"/>
          <p:cNvPicPr/>
          <p:nvPr/>
        </p:nvPicPr>
        <p:blipFill>
          <a:blip r:embed="rId5"/>
          <a:stretch/>
        </p:blipFill>
        <p:spPr>
          <a:xfrm>
            <a:off x="3657600" y="3200400"/>
            <a:ext cx="50760" cy="76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:\Documents and Settings\2056211\Local Settings\Temporary Internet Files\Content.IE5\3Z44CHM7\MP900201944[1].jpg"/>
          <p:cNvPicPr/>
          <p:nvPr/>
        </p:nvPicPr>
        <p:blipFill>
          <a:blip r:embed="rId6"/>
          <a:stretch/>
        </p:blipFill>
        <p:spPr>
          <a:xfrm>
            <a:off x="5486400" y="2325600"/>
            <a:ext cx="76320" cy="114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C:\Documents and Settings\2056211\Local Settings\Temporary Internet Files\Content.IE5\3Z44CHM7\MP900201944[1].jpg"/>
          <p:cNvPicPr/>
          <p:nvPr/>
        </p:nvPicPr>
        <p:blipFill>
          <a:blip r:embed="rId7"/>
          <a:stretch/>
        </p:blipFill>
        <p:spPr>
          <a:xfrm>
            <a:off x="7334280" y="4114800"/>
            <a:ext cx="18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cd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gae are  blue and green. To start, there are 300 species . Secondly, they are different kinds of forms. Finally, they are from Antarctica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ga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7" name="Picture 3" descr="C:\Documents and Settings\2056211\Local Settings\Temporary Internet Files\Content.IE5\U5NB2WIW\MC900057631[1].wmf"/>
          <p:cNvPicPr/>
          <p:nvPr/>
        </p:nvPicPr>
        <p:blipFill>
          <a:blip r:embed="rId2"/>
          <a:stretch/>
        </p:blipFill>
        <p:spPr>
          <a:xfrm>
            <a:off x="4221000" y="2438280"/>
            <a:ext cx="492300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c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It covers 1% of all the land in Antarctica. To start , there is 2 species of it. Secondly, it is not tall it’s height is 1in . finally ,  it grows in the south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1640" y="12193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Picture 2" descr="C:\Documents and Settings\2056211\Local Settings\Temporary Internet Files\Content.IE5\W2IDXE9K\MP900402207[1].jpg"/>
          <p:cNvPicPr/>
          <p:nvPr/>
        </p:nvPicPr>
        <p:blipFill>
          <a:blip r:embed="rId2"/>
          <a:stretch/>
        </p:blipFill>
        <p:spPr>
          <a:xfrm>
            <a:off x="5613480" y="1868400"/>
            <a:ext cx="44280" cy="68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2056211\Local Settings\Temporary Internet Files\Content.IE5\W2IDXE9K\MP900402207[1].jpg"/>
          <p:cNvPicPr/>
          <p:nvPr/>
        </p:nvPicPr>
        <p:blipFill>
          <a:blip r:embed="rId3"/>
          <a:stretch/>
        </p:blipFill>
        <p:spPr>
          <a:xfrm>
            <a:off x="4495680" y="1143000"/>
            <a:ext cx="41148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2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ss grows near the ocean .  to star ,they are as much as 6 and one half feet deep . Secondly , it  can get old as 5,000 years .  Finally, most grow in Antarctic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 rot="10800000">
            <a:off x="4610160" y="1676520"/>
            <a:ext cx="46080" cy="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6" name="Picture 3" descr="C:\Documents and Settings\2056211\Local Settings\Temporary Internet Files\Content.IE5\9OX8KLQ3\MP900447904[1].jpg"/>
          <p:cNvPicPr/>
          <p:nvPr/>
        </p:nvPicPr>
        <p:blipFill>
          <a:blip r:embed="rId2"/>
          <a:stretch/>
        </p:blipFill>
        <p:spPr>
          <a:xfrm>
            <a:off x="507960" y="658800"/>
            <a:ext cx="68400" cy="46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C:\Documents and Settings\2056211\Local Settings\Temporary Internet Files\Content.IE5\3Z44CHM7\MP900448014[1].jpg"/>
          <p:cNvPicPr/>
          <p:nvPr/>
        </p:nvPicPr>
        <p:blipFill>
          <a:blip r:embed="rId3"/>
          <a:stretch/>
        </p:blipFill>
        <p:spPr>
          <a:xfrm>
            <a:off x="5334120" y="1905120"/>
            <a:ext cx="2948040" cy="441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839080" cy="602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b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Blue wha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deline pengui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hinstrap pengui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a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sh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Kelp gul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iche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Gra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od Web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0" name="MS900074766[1].wav" descr=""/>
          <p:cNvPicPr/>
          <p:nvPr/>
        </p:nvPicPr>
        <p:blipFill>
          <a:blip r:embed="rId2"/>
          <a:stretch/>
        </p:blipFill>
        <p:spPr>
          <a:xfrm>
            <a:off x="6400800" y="5410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39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j0214098.wav" descr=""/>
          <p:cNvPicPr/>
          <p:nvPr/>
        </p:nvPicPr>
        <p:blipFill>
          <a:blip r:embed="rId1"/>
          <a:stretch/>
        </p:blipFill>
        <p:spPr>
          <a:xfrm>
            <a:off x="10363320" y="6324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Title 1" descr=""/>
          <p:cNvPicPr/>
          <p:nvPr/>
        </p:nvPicPr>
        <p:blipFill>
          <a:blip r:embed="rId2"/>
          <a:stretch/>
        </p:blipFill>
        <p:spPr>
          <a:xfrm>
            <a:off x="-19080" y="109440"/>
            <a:ext cx="8486640" cy="738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5335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94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uhaus 93"/>
              </a:rPr>
              <a:t>Antarctica is a cold place but it is home to many animals and plants . Initially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 , </a:t>
            </a:r>
            <a:r>
              <a:rPr b="0" lang="en-US" sz="2600" spc="-1" strike="noStrike">
                <a:solidFill>
                  <a:srgbClr val="ffffff"/>
                </a:solidFill>
                <a:latin typeface="Bauhaus 93"/>
              </a:rPr>
              <a:t>it is 14 times bigger  than the USA. It is 5,339,543 miles  In addition, the ice free area is 32% of all the land . It has volcanic  eruptions  under water . Last but not least , it is surrounded by 3 other oceans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ntarctic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5" name="Picture 6" descr="http://mstecker.com/images/antarctica/antarcticaHP/I39IB1.JPG"/>
          <p:cNvPicPr/>
          <p:nvPr/>
        </p:nvPicPr>
        <p:blipFill>
          <a:blip r:embed="rId3"/>
          <a:stretch/>
        </p:blipFill>
        <p:spPr>
          <a:xfrm>
            <a:off x="4800600" y="2209680"/>
            <a:ext cx="3886200" cy="2587680"/>
          </a:xfrm>
          <a:prstGeom prst="rect">
            <a:avLst/>
          </a:prstGeom>
          <a:ln w="0">
            <a:noFill/>
          </a:ln>
        </p:spPr>
      </p:pic>
      <p:pic>
        <p:nvPicPr>
          <p:cNvPr id="236" name="MS910219879[1].wav" descr=""/>
          <p:cNvPicPr/>
          <p:nvPr/>
        </p:nvPicPr>
        <p:blipFill>
          <a:blip r:embed="rId4"/>
          <a:stretch/>
        </p:blipFill>
        <p:spPr>
          <a:xfrm>
            <a:off x="609588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4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04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blue whale is the  largest animal ever known on earth. It is 3 times bigger than a dinosaur . To start ,  the population is 11,000 .secondly , the size of the whale is 85 to 100 ft long. The blue whale weighs</a:t>
            </a: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  85 to 150 tons. Yet another, it’s diet is krill and other  crustaceans. Finally , they have 1 to 3 babies but only 1 surviv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3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ue whal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5" descr="C:\Documents and Settings\2056211\Local Settings\Temporary Internet Files\Content.IE5\TNLJY5BO\MC900057221[1].wmf"/>
          <p:cNvPicPr/>
          <p:nvPr/>
        </p:nvPicPr>
        <p:blipFill>
          <a:blip r:embed="rId2"/>
          <a:stretch/>
        </p:blipFill>
        <p:spPr>
          <a:xfrm flipH="1">
            <a:off x="3576240" y="2438280"/>
            <a:ext cx="157320" cy="76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Documents and Settings\2056211\Local Settings\Temporary Internet Files\Content.IE5\I63YDXU0\MC900000941[1].wmf"/>
          <p:cNvPicPr/>
          <p:nvPr/>
        </p:nvPicPr>
        <p:blipFill>
          <a:blip r:embed="rId3"/>
          <a:stretch/>
        </p:blipFill>
        <p:spPr>
          <a:xfrm flipH="1">
            <a:off x="5410080" y="2895480"/>
            <a:ext cx="76320" cy="60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C:\Documents and Settings\2056211\Local Settings\Temporary Internet Files\Content.IE5\I1C4T0S3\MC900014767[1].wmf"/>
          <p:cNvPicPr/>
          <p:nvPr/>
        </p:nvPicPr>
        <p:blipFill>
          <a:blip r:embed="rId4"/>
          <a:stretch/>
        </p:blipFill>
        <p:spPr>
          <a:xfrm>
            <a:off x="4800600" y="3124080"/>
            <a:ext cx="128520" cy="76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Documents and Settings\2056211\Local Settings\Temporary Internet Files\Content.IE5\GBDQ31KK\MC900370862[1].wmf"/>
          <p:cNvPicPr/>
          <p:nvPr/>
        </p:nvPicPr>
        <p:blipFill>
          <a:blip r:embed="rId5"/>
          <a:stretch/>
        </p:blipFill>
        <p:spPr>
          <a:xfrm>
            <a:off x="4419720" y="2133720"/>
            <a:ext cx="422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3b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auhaus 93"/>
              </a:rPr>
              <a:t>Adeline penguins are black and white . To start , the population of  Adeline  penguins is 2.5 millions. secondly , the Adeline penguins can grow up to 70cm to 27in .Yet another fact, it can weigh 5 to 11 pounds . They also ,eat fish and shrimp . Last but not least, this penguins take care of their own babies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Picture 5" descr="C:\Documents and Settings\2056211\Local Settings\Temporary Internet Files\Content.IE5\GBDQ31KK\MP900443910[1].jpg"/>
          <p:cNvPicPr/>
          <p:nvPr/>
        </p:nvPicPr>
        <p:blipFill>
          <a:blip r:embed="rId2"/>
          <a:stretch/>
        </p:blipFill>
        <p:spPr>
          <a:xfrm>
            <a:off x="5791320" y="114300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Documents and Settings\2056211\Local Settings\Temporary Internet Files\Content.IE5\I63YDXU0\MP900431210[1].jpg"/>
          <p:cNvPicPr/>
          <p:nvPr/>
        </p:nvPicPr>
        <p:blipFill>
          <a:blip r:embed="rId3"/>
          <a:stretch/>
        </p:blipFill>
        <p:spPr>
          <a:xfrm>
            <a:off x="5410080" y="3048120"/>
            <a:ext cx="22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re is 13 million chinstrap penguins in all the world. To start, there breeding season is in december - march . Secondly, The penguin can grow up to 68cm to 27i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Picture 13" descr="http://t0.gstatic.com/images?q=tbn:ANd9GcQzwv0-B4a3QudkSe3tPZNqSgmJSxZxdWs_v3WoaRHb1BXHUu8Qzg&amp;t=1"/>
          <p:cNvPicPr/>
          <p:nvPr/>
        </p:nvPicPr>
        <p:blipFill>
          <a:blip r:embed="rId2"/>
          <a:stretch/>
        </p:blipFill>
        <p:spPr>
          <a:xfrm>
            <a:off x="5486400" y="0"/>
            <a:ext cx="46080" cy="63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Documents and Settings\2056211\Local Settings\Temporary Internet Files\Content.IE5\TNLJY5BO\MP900399650[1].jpg"/>
          <p:cNvPicPr/>
          <p:nvPr/>
        </p:nvPicPr>
        <p:blipFill>
          <a:blip r:embed="rId3"/>
          <a:stretch/>
        </p:blipFill>
        <p:spPr>
          <a:xfrm>
            <a:off x="6553080" y="2133720"/>
            <a:ext cx="76320" cy="114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2056211\Local Settings\Temporary Internet Files\Content.IE5\TNLJY5BO\MP900399650[1].jpg"/>
          <p:cNvPicPr/>
          <p:nvPr/>
        </p:nvPicPr>
        <p:blipFill>
          <a:blip r:embed="rId4"/>
          <a:stretch/>
        </p:blipFill>
        <p:spPr>
          <a:xfrm>
            <a:off x="5562720" y="2027160"/>
            <a:ext cx="46080" cy="68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http://t0.gstatic.com/images?q=tbn:ANd9GcQzwv0-B4a3QudkSe3tPZNqSgmJSxZxdWs_v3WoaRHb1BXHUu8Qzg&amp;t=1"/>
          <p:cNvPicPr/>
          <p:nvPr/>
        </p:nvPicPr>
        <p:blipFill>
          <a:blip r:embed="rId5"/>
          <a:stretch/>
        </p:blipFill>
        <p:spPr>
          <a:xfrm>
            <a:off x="5867280" y="1981080"/>
            <a:ext cx="3102120" cy="4343400"/>
          </a:xfrm>
          <a:prstGeom prst="rect">
            <a:avLst/>
          </a:prstGeom>
          <a:ln w="0">
            <a:noFill/>
          </a:ln>
        </p:spPr>
      </p:pic>
      <p:pic>
        <p:nvPicPr>
          <p:cNvPr id="254" name="MS910219050[1]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16867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auhaus 93"/>
              </a:rPr>
              <a:t>IN Antarctica there are 33 species of seals. To start, seals can weigh up to 250 pounds .  another fact is that they can grow up to 20ft. They come up the water every 2 minutes to breath. Lastly, the number of seals that had desapear is 80% of 200 .the diet of the seals is fish and squi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Picture 5" descr="C:\Documents and Settings\2056211\Local Settings\Temporary Internet Files\Content.IE5\I63YDXU0\MP900399281[1].jpg"/>
          <p:cNvPicPr/>
          <p:nvPr/>
        </p:nvPicPr>
        <p:blipFill>
          <a:blip r:embed="rId2"/>
          <a:stretch/>
        </p:blipFill>
        <p:spPr>
          <a:xfrm>
            <a:off x="-4191120" y="7391520"/>
            <a:ext cx="21412440" cy="14270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C:\Documents and Settings\2056211\Local Settings\Temporary Internet Files\Content.IE5\I1C4T0S3\MP900401276[1].jpg"/>
          <p:cNvPicPr/>
          <p:nvPr/>
        </p:nvPicPr>
        <p:blipFill>
          <a:blip r:embed="rId3"/>
          <a:stretch/>
        </p:blipFill>
        <p:spPr>
          <a:xfrm>
            <a:off x="5029200" y="76212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:\Documents and Settings\2056211\Local Settings\Temporary Internet Files\Content.IE5\GBDQ31KK\MP900406911[1].jpg"/>
          <p:cNvPicPr/>
          <p:nvPr/>
        </p:nvPicPr>
        <p:blipFill>
          <a:blip r:embed="rId4"/>
          <a:stretch/>
        </p:blipFill>
        <p:spPr>
          <a:xfrm>
            <a:off x="5638680" y="3736800"/>
            <a:ext cx="1471680" cy="2206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1144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61" name="Object 8"/>
          <p:cNvGraphicFramePr/>
          <p:nvPr/>
        </p:nvGraphicFramePr>
        <p:xfrm>
          <a:off x="7238880" y="5257800"/>
          <a:ext cx="6098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5257800"/>
                    <a:ext cx="609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1a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re are many types of fish in Antarctica. To begin , they migrate in almost all the oceans .secondly . fish are 18 to 34in.yet another, fish weigh 10 to 11 pounds. Last but not least , most  fish lay 5.000 to 5,000.000 eggs. Their  diet is krill and  plant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Picture 5" descr="C:\Documents and Settings\2056211\Local Settings\Temporary Internet Files\Content.IE5\TNLJY5BO\MP900438972[1].jpg"/>
          <p:cNvPicPr/>
          <p:nvPr/>
        </p:nvPicPr>
        <p:blipFill>
          <a:blip r:embed="rId2"/>
          <a:stretch/>
        </p:blipFill>
        <p:spPr>
          <a:xfrm>
            <a:off x="4595760" y="2471760"/>
            <a:ext cx="60480" cy="4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http://blogs.laweekly.com/stylecouncil/2010/05/27/ariel-fish-friends.jpg"/>
          <p:cNvPicPr/>
          <p:nvPr/>
        </p:nvPicPr>
        <p:blipFill>
          <a:blip r:embed="rId3"/>
          <a:stretch/>
        </p:blipFill>
        <p:spPr>
          <a:xfrm>
            <a:off x="5181480" y="609480"/>
            <a:ext cx="76320" cy="46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http://www.supercoloring.com/wp-content/thumbnail/2008_11/small-fish-coloring-page.jpg"/>
          <p:cNvPicPr/>
          <p:nvPr/>
        </p:nvPicPr>
        <p:blipFill>
          <a:blip r:embed="rId4"/>
          <a:stretch/>
        </p:blipFill>
        <p:spPr>
          <a:xfrm>
            <a:off x="4724280" y="144792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268" name="MS900441656[1].wav" descr=""/>
          <p:cNvPicPr/>
          <p:nvPr/>
        </p:nvPicPr>
        <p:blipFill>
          <a:blip r:embed="rId5"/>
          <a:stretch/>
        </p:blipFill>
        <p:spPr>
          <a:xfrm>
            <a:off x="594360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45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9144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Kelp gulls are flying creatures that live in the cold Antarctica. To start, the population is a several hundred thousand . Secondly its height is 3 to 4 feet . Yet another , it  weighs  2 to 3 pounds. Last but not least , its diet is dead  fish and  shellfish . Finally, its wings   span 3 to 4 feet when it flies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5" descr="http://t2.gstatic.com/images?q=tbn:ANd9GcQCiOvMNetE2MDMoGG-89G11EYDsJELoL0Xq88Ljw5lSS2pOr1H"/>
          <p:cNvPicPr/>
          <p:nvPr/>
        </p:nvPicPr>
        <p:blipFill>
          <a:blip r:embed="rId2"/>
          <a:stretch/>
        </p:blipFill>
        <p:spPr>
          <a:xfrm>
            <a:off x="5257800" y="2438280"/>
            <a:ext cx="3459240" cy="2590920"/>
          </a:xfrm>
          <a:prstGeom prst="rect">
            <a:avLst/>
          </a:prstGeom>
          <a:ln w="0">
            <a:noFill/>
          </a:ln>
        </p:spPr>
      </p:pic>
      <p:pic>
        <p:nvPicPr>
          <p:cNvPr id="272" name="MS900388290[1].wav" descr=""/>
          <p:cNvPicPr/>
          <p:nvPr/>
        </p:nvPicPr>
        <p:blipFill>
          <a:blip r:embed="rId3"/>
          <a:stretch/>
        </p:blipFill>
        <p:spPr>
          <a:xfrm>
            <a:off x="5257800" y="54100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334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4T21:11:26Z</dcterms:modified>
  <cp:revision>50</cp:revision>
  <dc:subject/>
  <dc:title>Title</dc:title>
</cp:coreProperties>
</file>